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51B6-73C3-4598-9628-3C7257B3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0452-30A9-4B66-A990-AEEF3C7A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C56-5769-409D-B860-BF48DCBE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95C-E3E5-4297-94A7-47833A8B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ED77-7803-4CF7-929F-289CA42B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28AF-BAFC-444E-B563-6D0B7728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1C30-AD87-48BF-8ABF-01C0ED84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781B-B54B-4B25-8E17-359AFD3F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44AB-83A2-472D-B62D-184829F9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7A53-609E-49CB-A47E-50B338C5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0349-CBDC-4BD0-8E6A-C30D4EBC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777-8F9E-4183-81B7-B73A2C9A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A784-2B89-46E3-9F87-D440559D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FA18-7A0E-45DA-A3CC-4D93EE3A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CBF2-E7B2-4716-B5A9-787A7C93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E123-5A5B-4C53-826B-0F9794BE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AB2A-A29C-4C41-BA5E-DAA9747C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F2661-9124-48DA-865D-14164264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F8A4E-EED3-43D8-B01E-8445628E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F5C7C-1E91-43F4-89D8-A62B78C0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0A615-7C71-4EDE-A112-C820FDD2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0899B-DBE2-4051-A7EA-020EEF4E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C44-5C70-45B2-9ED3-EED70A7B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FE791-6C6D-4D77-A574-C8517283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C22A9-9E56-43F5-86FE-411A7033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AC344-12BA-496F-BB38-2D4556D8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FA4DA-D484-4049-B184-4ADDDEF5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82DE8-DB9F-4A00-A0BD-55C1DE9E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7DDBB-1FBD-418E-9606-8AE13865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0E92C-2E47-4F3A-BB50-29E80D20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7245F-E589-4911-B8D8-1A00E81F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CAEA8-1443-442D-93C1-F33C5A91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1C73B-7BAD-432F-9AC0-F33FBAFE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CA3-BDDD-44E6-9251-9EB3D97E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0FD8D-2513-494C-BE24-6FDAEEA0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0BFBE-2422-418C-9762-D971AF3E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E2699-0CE9-4C9D-B8BC-E726D556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AC075-3D10-4460-9718-F61D9BAF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0222A-D89D-4E47-BAC8-3A28CB92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96FE8-B18C-45C2-A536-D3B00500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F642E-0DB2-4958-B299-5EFADC73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EF866-08AC-4C25-AABD-E872928F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4297C-95D5-4FE7-BA54-DC1852B7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A49DA-1EE0-4451-A2C4-6654E3D7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1CE-EEF1-4296-846B-3D53BDA2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9086F-750C-4EE3-887E-DD5D7640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18FC3-6E51-44A3-B8D4-3DB25DD3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A1CDA-788E-4034-9904-DBA85BA0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4BA60-BB91-4234-957F-B41795FA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CB413-CE62-45EC-A0A8-F35B1470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A6BF6-67D8-4E3A-AD69-C61F067E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A4F13-050E-4CB9-9DEE-404828A8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8150D-BE4C-40EF-B4E4-6A921708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37F00-9387-473C-A400-8B1946FA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7D18D-3B29-477C-9B41-030E3B1A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B07-9B6B-462E-9DF4-4115072E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D160B-5332-4C9C-9859-8D2F3AB5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22237-A551-414C-9C75-ECD8913A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FD9E0-EC2A-4B52-81DA-2A69A725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A8E2F-F98E-4D5C-A5CB-8E34A832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FB507-3E93-4401-B015-EC7EE1F9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D242A-1838-4486-8255-6A1FE4DC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8B7C8-8027-4429-9957-B1CD9B23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0CAE1-8DF3-4337-8E4D-F694605B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729F8-E02A-4DAF-AE06-DD4308A1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F6BCB-9AAE-4925-ACB1-26D15025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500-22AF-4572-9F9D-3171F5EA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729C1-1BDE-42EB-8051-8FC1B467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51F5A-8389-4A5F-B3FF-0AAA0B2B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83349-3A39-4C62-BC00-64B8D577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B837B-8E3D-4203-983D-48DB6002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B5BAC-B4AD-499B-9679-5B6B8E41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A207B-33E3-439E-874C-E5E8BCA3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AC8D1-C0FD-4F13-8579-18EC41D3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586AF-9315-49E6-AA03-171C7E96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5CCAB-913C-4DF3-B63D-E0FB3D98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FE852-97F1-452B-934E-CA0CCF7D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353-5CAB-4D83-99A6-57E265B9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1A69D-FDBA-40D6-9EBC-A2BF968D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07437-C7E7-4A47-9465-CC8422C3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9FC96-FA3C-499C-98AB-FB526D05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5BF93-0B21-40F4-8FFB-4690C0EF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411DF-A033-4BAF-9AC0-FB7BA29D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1184-F385-46FA-9139-3998B013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5D73-C4CC-4E7A-8670-7864119A89EF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CF06-8A8C-4C29-894B-81A5AA926433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17 Forma libre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18 Forma libre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19 Forma libre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20 Forma libre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23 Forma libre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" name="24 Forma libre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25 Forma libre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26 Forma libre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27 Forma libre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28 Forma libre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29 Forma libre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0" name="30 Forma libre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31 Forma libre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32 Forma libre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33 Forma libre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8B34-7AD4-4BA5-8072-17A624D5A448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D3B0-DCE5-429B-9187-96591D5D2F83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0E18-C991-4A6A-9422-1B76766229CC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81EF-0647-4AC4-9C71-228179C351CC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5" name="19 Grupo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20 Conector recto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317" name="23 Conector recto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318" name="24 Conector recto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319" name="25 Grupo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26 Conector recto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321" name="27 Conector recto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322" name="28 Conector recto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323" name="29 Grupo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30 Conector recto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325" name="31 Conector recto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326" name="32 Conector recto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D24B-DC7F-4E2D-A319-1E2D90DF0374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1 Título" descr=""/>
          <p:cNvPicPr/>
          <p:nvPr/>
        </p:nvPicPr>
        <p:blipFill>
          <a:blip r:embed="rId1"/>
          <a:stretch/>
        </p:blipFill>
        <p:spPr>
          <a:xfrm>
            <a:off x="895320" y="1085760"/>
            <a:ext cx="77850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258920" y="3715920"/>
            <a:ext cx="1425600" cy="48276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fa326"/>
                </a:solidFill>
                <a:latin typeface="Franklin Gothic Book"/>
              </a:rPr>
              <a:t>BRESCIA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70" name="Picture 2" descr="http://2.bp.blogspot.com/_6rJZaviC4NY/RgbWqs7n4VI/AAAAAAAAAp8/opljYa1U5eM/s320/Brescia+Catedral+Nueva.jpg"/>
          <p:cNvPicPr/>
          <p:nvPr/>
        </p:nvPicPr>
        <p:blipFill>
          <a:blip r:embed="rId1"/>
          <a:stretch/>
        </p:blipFill>
        <p:spPr>
          <a:xfrm>
            <a:off x="1042920" y="549360"/>
            <a:ext cx="2038320" cy="3047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http://3.bp.blogspot.com/-4oE1G67McKc/TqyJgmNZpQI/AAAAAAAACEs/dHPVrtUDXys/s1600/Copenhague+Alemania+Octubre+2011+513.JPG"/>
          <p:cNvPicPr/>
          <p:nvPr/>
        </p:nvPicPr>
        <p:blipFill>
          <a:blip r:embed="rId2"/>
          <a:stretch/>
        </p:blipFill>
        <p:spPr>
          <a:xfrm>
            <a:off x="3551400" y="549360"/>
            <a:ext cx="4643280" cy="3095640"/>
          </a:xfrm>
          <a:prstGeom prst="rect">
            <a:avLst/>
          </a:prstGeom>
          <a:ln w="0">
            <a:noFill/>
          </a:ln>
        </p:spPr>
      </p:pic>
      <p:sp>
        <p:nvSpPr>
          <p:cNvPr id="372" name="5 CuadroTexto"/>
          <p:cNvSpPr/>
          <p:nvPr/>
        </p:nvSpPr>
        <p:spPr>
          <a:xfrm>
            <a:off x="4634640" y="386064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fa326"/>
                </a:solidFill>
                <a:latin typeface="Franklin Gothic Book"/>
              </a:rPr>
              <a:t>BRANDENBURGER TOR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73" name="7 Título" descr=""/>
          <p:cNvPicPr/>
          <p:nvPr/>
        </p:nvPicPr>
        <p:blipFill>
          <a:blip r:embed="rId3"/>
          <a:stretch/>
        </p:blipFill>
        <p:spPr>
          <a:xfrm>
            <a:off x="871560" y="4334040"/>
            <a:ext cx="7845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7:51:36Z</dcterms:created>
  <dc:creator>Lidia</dc:creator>
  <dc:description/>
  <dc:language>en-US</dc:language>
  <cp:lastModifiedBy>Lidia</cp:lastModifiedBy>
  <dcterms:modified xsi:type="dcterms:W3CDTF">2012-05-16T18:15:04Z</dcterms:modified>
  <cp:revision>1</cp:revision>
  <dc:subject/>
  <dc:title>ESTATUAS Y Catedrales con tejados  verdes</dc:title>
</cp:coreProperties>
</file>